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16B74-8A0F-42FD-97CE-3141A459BA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B3A31-4E4D-41A0-9F78-C2901C613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2E21F-529A-45E6-BFA2-8B9EA7DA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3C7F7-FAC6-4E3C-AC03-216FEE00D9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FA94F-3CEB-4E74-9907-F92E627E3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EEC14-0680-439F-8F4E-3E02185E2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8C629-4DA8-4596-84AB-CBA8034EF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CBC93-D331-4C58-99CB-88257E76B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E3F2C-5984-4B6E-96DF-8649E4E85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430D7-6164-4D2A-ADF6-FCDEB1976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A979C-30AE-4622-8472-9A9D1A40F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85B76-1484-418F-8EC0-759F5006A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332A3-3C46-4C20-9285-D9EDA247FA4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绪论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外科护理学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简述外科学和外科护理学的发展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外科学与外科护理学之间的关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外科护理学的学习方法学习本课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er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医学科学的一个重要组成部分，其范畴在医学的历史发展中逐渐形成，并不断变化发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是外科工作的重要组成部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护理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ical nursin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护理学的一大分支，是研究外科患者身心康复的护理方法及预防保健的一门学科，主要包括医学基础理论、外科学的基础理论、护理学基础理论及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世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毒灭菌和无菌技术、止血输血、麻醉止痛的问世，解决了长期困扰外科的感染、出血和疼痛等问题，成为外科学的三大里程碑，是外科学进入现代外科学的标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世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南丁格尔在克里米亚战场上，通过清洁、消毒、换药、包扎伤口、改善休养环境等措施使伤员死亡率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下降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.2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首次以无可辩驳的事实向社会显示了护理在外科发展中的重要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现代的护理观为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贯彻整体护理的思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科学的护理程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是科学也是艺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掌握外科护理学的特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范畴疾病的病情复杂多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急诊多、抢救多，卧床患者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树立高度的责任心，勤于思考，及时有效地挽救患者的生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论联系实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既要重视基本理论、基本知识和基本技能，又要注意知识的更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6:58:46Z</dcterms:modified>
  <cp:revision>90</cp:revision>
  <dc:subject/>
  <dc:title>内科护理学</dc:title>
</cp:coreProperties>
</file>